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5432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47040" y="114300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160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5432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47040" y="3769920"/>
            <a:ext cx="2468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2120" y="228240"/>
            <a:ext cx="7385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0640" y="376992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60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0640" y="1143000"/>
            <a:ext cx="3741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600" y="3769920"/>
            <a:ext cx="7667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143000"/>
            <a:ext cx="7667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0400" y="790560"/>
            <a:ext cx="7639200" cy="0"/>
          </a:xfrm>
          <a:prstGeom prst="line">
            <a:avLst/>
          </a:prstGeom>
          <a:ln w="12600">
            <a:solidFill>
              <a:srgbClr val="004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70720" y="0"/>
            <a:ext cx="7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E0A6-13F8-4C4D-8101-25CECC754CB7}" type="slidenum">
              <a:rPr b="0" lang="en-US" sz="1200" spc="-1" strike="noStrike">
                <a:solidFill>
                  <a:srgbClr val="00306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6896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CFD34994-F8FE-4F26-ACED-A9695BAFECC0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42" name="band" descr=""/>
          <p:cNvPicPr/>
          <p:nvPr/>
        </p:nvPicPr>
        <p:blipFill>
          <a:blip r:embed="rId2"/>
          <a:stretch/>
        </p:blipFill>
        <p:spPr>
          <a:xfrm>
            <a:off x="0" y="6337440"/>
            <a:ext cx="91440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81080" y="2514600"/>
            <a:ext cx="540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960" y="1828800"/>
            <a:ext cx="6823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Memor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 handling (HISR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2120" y="1143000"/>
            <a:ext cx="78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-time Operating System (Nucleus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994280" y="4114800"/>
            <a:ext cx="281304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94280" y="2666880"/>
            <a:ext cx="386856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4280" y="2209680"/>
            <a:ext cx="386856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92120" y="1676160"/>
            <a:ext cx="274320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" y="914400"/>
            <a:ext cx="47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2240" y="990720"/>
            <a:ext cx="4360680" cy="7077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98720" y="365760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S Lay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98720" y="5105520"/>
            <a:ext cx="182880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167652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13120" y="304812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13120" y="4495680"/>
            <a:ext cx="0" cy="6098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35320" y="120492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30880" y="365760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65480" y="2209680"/>
            <a:ext cx="2462040" cy="86256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30880" y="2209680"/>
            <a:ext cx="56340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S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516480" y="1676160"/>
            <a:ext cx="0" cy="5331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30880" y="2666880"/>
            <a:ext cx="1828800" cy="1524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2120" y="1905120"/>
            <a:ext cx="1689120" cy="23619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in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exi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primitiv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signal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timeout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config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i_run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92120" y="1218960"/>
            <a:ext cx="2743200" cy="685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81240" y="1676160"/>
            <a:ext cx="1617480" cy="2438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59680" y="4876920"/>
            <a:ext cx="154764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</a:t>
            </a: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s_...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os_...Drv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4280" y="3657600"/>
            <a:ext cx="2813040" cy="1219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59680" y="2590920"/>
            <a:ext cx="2603160" cy="1600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c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t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Semaphor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m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Memor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d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Driv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o_...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Output/Trac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30880" y="4114800"/>
            <a:ext cx="1828800" cy="23623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2120" y="1295280"/>
            <a:ext cx="788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6440" y="105552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2120" y="1600200"/>
            <a:ext cx="7034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reate() - export entity creation parameter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init() - open communication channels, initialize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exit() - close communication channels, free resour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primitive() - process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timeout() - process timeout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signal() - process signa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config() - dynamic entit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i_run() - main loop for active body configur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ntity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7160" y="1055520"/>
            <a:ext cx="633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ameters exported by pei_create(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84240" y="1676520"/>
            <a:ext cx="7034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c T_PEI_INFO pei_info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NAM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{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-table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in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exit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primitiv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timeout,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signal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run,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,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pei_config,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i_monitor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STACK_SIZE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QUEUE_ENTRIE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IORITY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TIMERS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_PROC_TYP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* ACTIVE/PASSIVE body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9680" y="903240"/>
            <a:ext cx="68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1) – Root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25360" y="4267080"/>
            <a:ext cx="703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pei_create() functions from 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668520" indent="-2570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asks with the parameters exported by pei_create()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3240" y="167652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us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Application_Initializ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f StartFrame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25360" y="3048120"/>
            <a:ext cx="36576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mory p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global tabl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25360" y="577548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8960" y="903240"/>
            <a:ext cx="737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ystem Startup (2) – Created Task Contex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1960" y="1523880"/>
            <a:ext cx="7439040" cy="37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kEntry ( TaskHandle ) called by the RTO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eate input queue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ity initialization -&gt; pei_init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 ACTIVE_BODY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i_run(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1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* PASSIVE_BODY */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for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ss mes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3240" y="5410080"/>
            <a:ext cx="6612120" cy="11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task entry function for all task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ask has its own stack, stack size and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92120" y="8031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9200" y="901800"/>
            <a:ext cx="635292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si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si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mmgmm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mm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gmm_pei_create,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(int)"MMGMM"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rr_list[] 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rr_pei_create,       NULL,   ASSIGNED_BY_CONDAT }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 NULL,                NULL,   0 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const T_COMPONENT_ADDRESS *ComponentTables[]=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si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mmgmm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rr_list,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br>
              <a:rPr sz="1500"/>
            </a:br>
            <a:r>
              <a:rPr b="1" lang="de-DE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6440" y="90324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ctive/Passive Bod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57400"/>
            <a:ext cx="6612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2120" y="1905120"/>
            <a:ext cx="842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ve Bod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ssive Bod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Loc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in Loop Func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i_run(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f_TaskEntry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stomer define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iting for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cessing messag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1960" y="2286000"/>
            <a:ext cx="703440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1932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1981080"/>
            <a:ext cx="0" cy="1905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2120" y="48769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ection of active or passive is done with flags exported by pei_cre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720" y="90324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reate New Ent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240" y="175248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pei interface by using the template xxx_pei.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ddress of xxx_pei_create() to task lis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source files for further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2120" y="14479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Star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97520" y="90324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2280" y="1658880"/>
            <a:ext cx="849312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stack entities run in their own RTOS task or may be     grouped in one task, e.g. CC, SS, SMS, SM are grouped to the CM task.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 are created at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orities set during initializ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is done by RTOS (preemptive multitasking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4495680"/>
            <a:ext cx="85806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as shared DLL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applications are dynamically started and stopp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1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3240" y="1676520"/>
            <a:ext cx="805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sized buffers of different sizes -&gt;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memory 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LOC(siz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m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4191120"/>
            <a:ext cx="4572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1676520" y="47242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5257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6520" y="3962520"/>
            <a:ext cx="38973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0080" y="35812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4191120"/>
            <a:ext cx="54468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4343400"/>
            <a:ext cx="4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ITC Officina Sans Book"/>
              </a:rPr>
              <a:t>cn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11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2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240" y="1676520"/>
            <a:ext cx="790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primitives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LOC(nam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new(siz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REE(pt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vsi_c_free(ptr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4240" y="3733920"/>
            <a:ext cx="576900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390760" y="426708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9800" y="47242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2320" y="3505320"/>
            <a:ext cx="34290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32240" y="3124080"/>
            <a:ext cx="17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8424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5360" y="3809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55520" y="5410080"/>
            <a:ext cx="66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imitive header is initialized by the VSI funct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Memory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8240" y="90324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Memory Management (3)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85680" y="3733920"/>
            <a:ext cx="576756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392200" y="426672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81240" y="457200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3505320"/>
            <a:ext cx="18586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3680" y="3124080"/>
            <a:ext cx="17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85680" y="3733920"/>
            <a:ext cx="1406520" cy="5331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28600" y="3809880"/>
            <a:ext cx="9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92200" y="3809880"/>
            <a:ext cx="1828800" cy="3812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21000" y="3505320"/>
            <a:ext cx="20275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3440" y="312408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3240" y="1523880"/>
            <a:ext cx="689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pimitive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PO_ALLOC(name,gues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drpo_new(size,opc,gues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38760" y="3809880"/>
            <a:ext cx="1547280" cy="1099440"/>
            <a:chOff x="3938760" y="3809880"/>
            <a:chExt cx="1547280" cy="1099440"/>
          </a:xfrm>
        </p:grpSpPr>
        <p:sp>
          <p:nvSpPr>
            <p:cNvPr id="285" name=""/>
            <p:cNvSpPr/>
            <p:nvPr/>
          </p:nvSpPr>
          <p:spPr>
            <a:xfrm>
              <a:off x="4219920" y="3809880"/>
              <a:ext cx="1266120" cy="381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38760" y="3962520"/>
              <a:ext cx="5626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219920" y="4266720"/>
              <a:ext cx="0" cy="38124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08960" y="4572000"/>
              <a:ext cx="56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tr1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3240" y="2362320"/>
            <a:ext cx="6612120" cy="3918600"/>
            <a:chOff x="633240" y="2362320"/>
            <a:chExt cx="6612120" cy="3918600"/>
          </a:xfrm>
        </p:grpSpPr>
        <p:grpSp>
          <p:nvGrpSpPr>
            <p:cNvPr id="290" name=""/>
            <p:cNvGrpSpPr/>
            <p:nvPr/>
          </p:nvGrpSpPr>
          <p:grpSpPr>
            <a:xfrm>
              <a:off x="984600" y="3962520"/>
              <a:ext cx="5064480" cy="2318400"/>
              <a:chOff x="984600" y="3962520"/>
              <a:chExt cx="5064480" cy="2318400"/>
            </a:xfrm>
          </p:grpSpPr>
          <p:sp>
            <p:nvSpPr>
              <p:cNvPr id="291" name=""/>
              <p:cNvSpPr/>
              <p:nvPr/>
            </p:nvSpPr>
            <p:spPr>
              <a:xfrm>
                <a:off x="984600" y="5105520"/>
                <a:ext cx="50644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984600" y="5105520"/>
                <a:ext cx="1406880" cy="53316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26800" y="51814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91480" y="5181480"/>
                <a:ext cx="3024360" cy="381240"/>
              </a:xfrm>
              <a:prstGeom prst="rect">
                <a:avLst/>
              </a:prstGeom>
              <a:solidFill>
                <a:srgbClr val="b4d9ff"/>
              </a:solidFill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984600" y="3962520"/>
                <a:ext cx="1195920" cy="114300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91120" y="3962520"/>
                <a:ext cx="703080" cy="12189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391480" y="5638320"/>
                <a:ext cx="0" cy="38124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80520" y="5943600"/>
                <a:ext cx="56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tr2</a:t>
                </a:r>
                <a:endParaRPr b="0" lang="en-US" sz="16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33240" y="2362320"/>
              <a:ext cx="661212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00"/>
                </a:spcBef>
                <a:buClr>
                  <a:srgbClr val="003069"/>
                </a:buClr>
                <a:buFont typeface="Wingdings" charset="2"/>
                <a:buChar char="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_ALLOC(ptr,size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si_dp_new(ptr,size)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33240" y="2743200"/>
            <a:ext cx="612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(ptr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si_free(ptr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2280" y="1143000"/>
            <a:ext cx="6892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put Message Queue for each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low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high prior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between Entities with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a memory partition (PALLOC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primitive data in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partition address to destination queue (PSEND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partition address from input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primitive - Call pei_primitiv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rtition (PFREE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89600" y="838080"/>
            <a:ext cx="48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ample Interprocess Communica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47640" y="1752480"/>
            <a:ext cx="6612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3280" y="1587600"/>
            <a:ext cx="140796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3280" y="16635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73280" y="17398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73280" y="2197080"/>
            <a:ext cx="140796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3280" y="3187800"/>
            <a:ext cx="1407960" cy="12952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3280" y="4635360"/>
            <a:ext cx="1407960" cy="16765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73280" y="2349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73280" y="25020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3280" y="349236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3280" y="37972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3280" y="524520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3280" y="5854680"/>
            <a:ext cx="1407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9680" y="120636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6440" y="189216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76440" y="2273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95640" y="23922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46640" y="3416400"/>
            <a:ext cx="168732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33960" y="3187800"/>
            <a:ext cx="985680" cy="8380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76440" y="2730600"/>
            <a:ext cx="0" cy="3045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76440" y="3035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0" y="34164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30960" y="2697120"/>
            <a:ext cx="20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end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0960" y="1859040"/>
            <a:ext cx="26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Store Primitive 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53160" y="3035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440" y="124920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 Poo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15120" y="410220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Receive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59680" y="4940280"/>
            <a:ext cx="25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Process Primitiv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45280" y="5473800"/>
            <a:ext cx="26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eallocate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76440" y="4940280"/>
            <a:ext cx="1054440" cy="304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3160" y="379728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76440" y="4178160"/>
            <a:ext cx="1476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65480" y="437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76440" y="471168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76440" y="417816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2320" y="1852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2240" y="34164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376440" y="143460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81240" y="326376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390760" y="1434960"/>
            <a:ext cx="0" cy="18288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76440" y="5321160"/>
            <a:ext cx="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81240" y="3416400"/>
            <a:ext cx="2095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90760" y="3416400"/>
            <a:ext cx="0" cy="2286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87680" y="1206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390760" y="143496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65480" y="143496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02080" y="54738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0760" y="5702400"/>
            <a:ext cx="2113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65480" y="5702400"/>
            <a:ext cx="21096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4430880" y="204480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771080" y="18525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2960" y="494028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30880" y="5092560"/>
            <a:ext cx="3520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77720" y="1020600"/>
            <a:ext cx="79329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miti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struc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P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numb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 input queue per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7200" y="210816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5880" y="3975120"/>
            <a:ext cx="209880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ity = proce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39160" y="2997360"/>
            <a:ext cx="0" cy="96516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39160" y="4902120"/>
            <a:ext cx="0" cy="9651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139160" y="1143000"/>
            <a:ext cx="0" cy="9651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83160" y="2577960"/>
            <a:ext cx="14428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3160" y="2514600"/>
            <a:ext cx="1442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4406760"/>
            <a:ext cx="8794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92640" y="4470480"/>
            <a:ext cx="879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05240" y="4483080"/>
            <a:ext cx="0" cy="1270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95760" y="2590920"/>
            <a:ext cx="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95760" y="1257480"/>
            <a:ext cx="0" cy="126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70800" y="302256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92640" y="3340080"/>
            <a:ext cx="0" cy="1054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70800" y="3645000"/>
            <a:ext cx="0" cy="330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181120" y="3340080"/>
            <a:ext cx="1489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606560" y="3645000"/>
            <a:ext cx="205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32040" y="33004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fa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32040" y="14335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44640" y="51800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SAP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3640" y="45403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5040" y="251136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Arial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Communic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1480" y="91440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ITC Officina Sans Book"/>
              </a:rPr>
              <a:t>Primitive Process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1676520"/>
            <a:ext cx="661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 in each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code (opc) 16/32 b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P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numb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/downlin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/system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1760" y="228240"/>
            <a:ext cx="827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imer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6800" y="90324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2120" y="1371600"/>
            <a:ext cx="7432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start request by an entit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starts RTOS time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TION: timer index has to be in the range between 0 and the number of timers exported by pei_creat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i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OS calls timeout routine in the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calls pei_timeout() in the body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up/slow down/suppres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2120" y="4876920"/>
            <a:ext cx="86518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, T_TIME 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o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( T_HANDLE caller, USHORT index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status ( T_HANDLE caller, USHORT index, T_TIME *tim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vsi_t_config (T_HANDLE caller, USHORT index, UBYTE mode, ULONG valu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emaphore Managemen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8600" y="903240"/>
            <a:ext cx="43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aphore Managemen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2120" y="1371600"/>
            <a:ext cx="661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emapho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if not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handle if existing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un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280" y="4419720"/>
            <a:ext cx="7807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_HANDLE vsi_s_open ( T_HANDLE caller, char *name, USHORT 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get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release ( T_HANDLE caller, T_HANDLE handle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HORT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si_s_status (T_HANDLE caller, T_HANDLE handle, USHORT *count 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2120" y="1371600"/>
            <a:ext cx="804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440" y="903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2120" y="1523880"/>
            <a:ext cx="7508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rection and duplication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nfiguration via 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s available to select a subset of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2120" y="3276720"/>
            <a:ext cx="85107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uplicated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ALL TA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are redirected to TAP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 DUPLICATE RR 0000011000000001 PCO      duplicate RR_ACTIVATE_REQ to PCO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primitives RR sends to MM are discarde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R REDIRECT CLE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all redirections of 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7520" y="903240"/>
            <a:ext cx="39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Observ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of primitive 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3240" y="2629080"/>
            <a:ext cx="4149720" cy="3390840"/>
            <a:chOff x="633240" y="2629080"/>
            <a:chExt cx="4149720" cy="3390840"/>
          </a:xfrm>
        </p:grpSpPr>
        <p:sp>
          <p:nvSpPr>
            <p:cNvPr id="401" name=""/>
            <p:cNvSpPr/>
            <p:nvPr/>
          </p:nvSpPr>
          <p:spPr>
            <a:xfrm>
              <a:off x="633240" y="262908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17920" y="3344760"/>
              <a:ext cx="1828440" cy="5526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68400" y="3467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17920" y="4746600"/>
              <a:ext cx="1828440" cy="5097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93400" y="484812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73480" y="379728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57080" y="4168800"/>
              <a:ext cx="68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855080" y="4324320"/>
              <a:ext cx="1298160" cy="3240"/>
            </a:xfrm>
            <a:custGeom>
              <a:avLst/>
              <a:gdLst/>
              <a:ahLst/>
              <a:rect l="l" t="t" r="r" b="b"/>
              <a:pathLst>
                <a:path w="484" h="0">
                  <a:moveTo>
                    <a:pt x="484" y="0"/>
                  </a:moveTo>
                  <a:lnTo>
                    <a:pt x="24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37400" y="423864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50160" y="3897360"/>
              <a:ext cx="363240" cy="849240"/>
            </a:xfrm>
            <a:custGeom>
              <a:avLst/>
              <a:gdLst/>
              <a:ahLst/>
              <a:rect l="l" t="t" r="r" b="b"/>
              <a:pathLst>
                <a:path w="136" h="229">
                  <a:moveTo>
                    <a:pt x="34" y="195"/>
                  </a:moveTo>
                  <a:lnTo>
                    <a:pt x="0" y="195"/>
                  </a:lnTo>
                  <a:lnTo>
                    <a:pt x="68" y="229"/>
                  </a:lnTo>
                  <a:lnTo>
                    <a:pt x="136" y="195"/>
                  </a:lnTo>
                  <a:lnTo>
                    <a:pt x="102" y="195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50160" y="28335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50160" y="5256360"/>
              <a:ext cx="363240" cy="50796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34" y="103"/>
                  </a:moveTo>
                  <a:lnTo>
                    <a:pt x="0" y="103"/>
                  </a:lnTo>
                  <a:lnTo>
                    <a:pt x="68" y="137"/>
                  </a:lnTo>
                  <a:lnTo>
                    <a:pt x="136" y="103"/>
                  </a:lnTo>
                  <a:lnTo>
                    <a:pt x="102" y="103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133960" y="2590920"/>
            <a:ext cx="351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DUPLICATE MM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DUPLICATE RR 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6440" y="90324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Te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of a single entity in the protocol stac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33960" y="2286000"/>
            <a:ext cx="2884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61960" y="2286000"/>
            <a:ext cx="4151160" cy="4038480"/>
            <a:chOff x="561960" y="2286000"/>
            <a:chExt cx="4151160" cy="4038480"/>
          </a:xfrm>
        </p:grpSpPr>
        <p:sp>
          <p:nvSpPr>
            <p:cNvPr id="419" name=""/>
            <p:cNvSpPr/>
            <p:nvPr/>
          </p:nvSpPr>
          <p:spPr>
            <a:xfrm>
              <a:off x="561960" y="2286000"/>
              <a:ext cx="4151160" cy="4038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6640" y="4027320"/>
              <a:ext cx="1830600" cy="562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97480" y="4151160"/>
              <a:ext cx="1021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72920" y="518148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93400" y="5257800"/>
              <a:ext cx="713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04720" y="4481640"/>
              <a:ext cx="1201680" cy="105732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88320" y="485604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76360" y="571500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62480" y="4730760"/>
              <a:ext cx="1437840" cy="280800"/>
            </a:xfrm>
            <a:custGeom>
              <a:avLst/>
              <a:gdLst/>
              <a:ahLst/>
              <a:rect l="l" t="t" r="r" b="b"/>
              <a:pathLst>
                <a:path w="536" h="76">
                  <a:moveTo>
                    <a:pt x="0" y="0"/>
                  </a:moveTo>
                  <a:lnTo>
                    <a:pt x="0" y="76"/>
                  </a:lnTo>
                  <a:lnTo>
                    <a:pt x="536" y="7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02360" y="4589640"/>
              <a:ext cx="11844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84120" y="492768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2480" y="3605040"/>
              <a:ext cx="1418760" cy="1151280"/>
            </a:xfrm>
            <a:custGeom>
              <a:avLst/>
              <a:gdLst/>
              <a:ahLst/>
              <a:rect l="l" t="t" r="r" b="b"/>
              <a:pathLst>
                <a:path w="529" h="310">
                  <a:moveTo>
                    <a:pt x="529" y="310"/>
                  </a:moveTo>
                  <a:lnTo>
                    <a:pt x="455" y="310"/>
                  </a:lnTo>
                  <a:lnTo>
                    <a:pt x="455" y="155"/>
                  </a:lnTo>
                  <a:lnTo>
                    <a:pt x="455" y="0"/>
                  </a:lnTo>
                  <a:lnTo>
                    <a:pt x="0" y="0"/>
                  </a:lnTo>
                  <a:lnTo>
                    <a:pt x="0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68280" y="467352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2360" y="386064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44" y="0"/>
                  </a:moveTo>
                  <a:lnTo>
                    <a:pt x="22" y="45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2920" y="2971800"/>
              <a:ext cx="1830600" cy="50796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64320" y="3048120"/>
              <a:ext cx="649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6360" y="2438280"/>
              <a:ext cx="367920" cy="50652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35" y="103"/>
                  </a:moveTo>
                  <a:lnTo>
                    <a:pt x="0" y="103"/>
                  </a:lnTo>
                  <a:lnTo>
                    <a:pt x="69" y="136"/>
                  </a:lnTo>
                  <a:lnTo>
                    <a:pt x="137" y="103"/>
                  </a:lnTo>
                  <a:lnTo>
                    <a:pt x="103" y="103"/>
                  </a:lnTo>
                  <a:lnTo>
                    <a:pt x="103" y="34"/>
                  </a:lnTo>
                  <a:lnTo>
                    <a:pt x="137" y="34"/>
                  </a:lnTo>
                  <a:lnTo>
                    <a:pt x="69" y="0"/>
                  </a:lnTo>
                  <a:lnTo>
                    <a:pt x="0" y="34"/>
                  </a:lnTo>
                  <a:lnTo>
                    <a:pt x="35" y="34"/>
                  </a:lnTo>
                  <a:lnTo>
                    <a:pt x="35" y="1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8600" y="90324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Manip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2120" y="1523880"/>
            <a:ext cx="66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pulation of primitive content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05240" y="2819520"/>
            <a:ext cx="3252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TAP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633240" y="2776680"/>
            <a:ext cx="4149720" cy="3387600"/>
            <a:chOff x="633240" y="2776680"/>
            <a:chExt cx="4149720" cy="3387600"/>
          </a:xfrm>
        </p:grpSpPr>
        <p:sp>
          <p:nvSpPr>
            <p:cNvPr id="441" name=""/>
            <p:cNvSpPr/>
            <p:nvPr/>
          </p:nvSpPr>
          <p:spPr>
            <a:xfrm>
              <a:off x="633240" y="2776680"/>
              <a:ext cx="4149720" cy="33876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7920" y="3505320"/>
              <a:ext cx="1828440" cy="5428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47280" y="365760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17920" y="4897440"/>
              <a:ext cx="1828440" cy="503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617840" y="5029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3480" y="3948120"/>
              <a:ext cx="1201320" cy="10494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04440" y="4343400"/>
              <a:ext cx="777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50160" y="298116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50160" y="5400720"/>
              <a:ext cx="363240" cy="51120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34" y="104"/>
                  </a:moveTo>
                  <a:lnTo>
                    <a:pt x="0" y="104"/>
                  </a:lnTo>
                  <a:lnTo>
                    <a:pt x="68" y="138"/>
                  </a:lnTo>
                  <a:lnTo>
                    <a:pt x="136" y="104"/>
                  </a:lnTo>
                  <a:lnTo>
                    <a:pt x="102" y="104"/>
                  </a:lnTo>
                  <a:lnTo>
                    <a:pt x="102" y="35"/>
                  </a:lnTo>
                  <a:lnTo>
                    <a:pt x="136" y="35"/>
                  </a:lnTo>
                  <a:lnTo>
                    <a:pt x="68" y="0"/>
                  </a:lnTo>
                  <a:lnTo>
                    <a:pt x="0" y="35"/>
                  </a:lnTo>
                  <a:lnTo>
                    <a:pt x="34" y="35"/>
                  </a:lnTo>
                  <a:lnTo>
                    <a:pt x="34" y="1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31960" y="4556160"/>
              <a:ext cx="1421280" cy="191880"/>
            </a:xfrm>
            <a:custGeom>
              <a:avLst/>
              <a:gdLst/>
              <a:ahLst/>
              <a:rect l="l" t="t" r="r" b="b"/>
              <a:pathLst>
                <a:path w="530" h="52">
                  <a:moveTo>
                    <a:pt x="0" y="52"/>
                  </a:moveTo>
                  <a:lnTo>
                    <a:pt x="0" y="0"/>
                  </a:lnTo>
                  <a:lnTo>
                    <a:pt x="53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670400" y="473076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0"/>
                  </a:moveTo>
                  <a:lnTo>
                    <a:pt x="23" y="45"/>
                  </a:lnTo>
                  <a:lnTo>
                    <a:pt x="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37400" y="4475160"/>
              <a:ext cx="120240" cy="16200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1960" y="4192560"/>
              <a:ext cx="1421280" cy="196920"/>
            </a:xfrm>
            <a:custGeom>
              <a:avLst/>
              <a:gdLst/>
              <a:ahLst/>
              <a:rect l="l" t="t" r="r" b="b"/>
              <a:pathLst>
                <a:path w="530" h="53">
                  <a:moveTo>
                    <a:pt x="0" y="0"/>
                  </a:moveTo>
                  <a:lnTo>
                    <a:pt x="0" y="53"/>
                  </a:lnTo>
                  <a:lnTo>
                    <a:pt x="530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70400" y="4048200"/>
              <a:ext cx="120240" cy="163440"/>
            </a:xfrm>
            <a:custGeom>
              <a:avLst/>
              <a:gdLst/>
              <a:ahLst/>
              <a:rect l="l" t="t" r="r" b="b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37400" y="4303800"/>
              <a:ext cx="12024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Rout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6800" y="903240"/>
            <a:ext cx="36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outing - Simulation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2120" y="1523880"/>
            <a:ext cx="773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entities on different platforms (target, PC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33960" y="2590920"/>
            <a:ext cx="351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RR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 REDIRECT CC NUL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 REDIRECT MM X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33240" y="2590920"/>
            <a:ext cx="4149720" cy="3390840"/>
            <a:chOff x="633240" y="2590920"/>
            <a:chExt cx="4149720" cy="3390840"/>
          </a:xfrm>
        </p:grpSpPr>
        <p:sp>
          <p:nvSpPr>
            <p:cNvPr id="461" name=""/>
            <p:cNvSpPr/>
            <p:nvPr/>
          </p:nvSpPr>
          <p:spPr>
            <a:xfrm>
              <a:off x="633240" y="2590920"/>
              <a:ext cx="4149720" cy="3390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17920" y="3981600"/>
              <a:ext cx="1829880" cy="55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79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848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2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98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8612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308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2040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80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54320" y="4538520"/>
              <a:ext cx="435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1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88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562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6236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894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756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82448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8918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7680" y="4538520"/>
              <a:ext cx="439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25000" y="4538520"/>
              <a:ext cx="42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955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16144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2287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96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376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31080" y="4538520"/>
              <a:ext cx="39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96960" y="4538520"/>
              <a:ext cx="410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64280" y="4538520"/>
              <a:ext cx="40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31960" y="4505400"/>
              <a:ext cx="1584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6" y="1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647800" y="440820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647800" y="4316040"/>
              <a:ext cx="288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2647800" y="4222440"/>
              <a:ext cx="288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2647800" y="4130640"/>
              <a:ext cx="28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647800" y="4036680"/>
              <a:ext cx="28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618640" y="3981600"/>
              <a:ext cx="291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5"/>
                  </a:move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5506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2483640" y="3981600"/>
              <a:ext cx="410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24163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23500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228240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2154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21481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208188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2014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94724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87992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812240" y="3981600"/>
              <a:ext cx="406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17463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16765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16088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15429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14752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14083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3406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127476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1207080" y="3981600"/>
              <a:ext cx="421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14012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07244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004760" y="3981600"/>
              <a:ext cx="435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939600" y="3981600"/>
              <a:ext cx="4248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871560" y="3981600"/>
              <a:ext cx="3924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7920" y="3981600"/>
              <a:ext cx="2736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17920" y="4037040"/>
              <a:ext cx="25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7920" y="4130640"/>
              <a:ext cx="252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7920" y="422280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17920" y="4316400"/>
              <a:ext cx="25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7920" y="4408560"/>
              <a:ext cx="2520" cy="60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17920" y="4505400"/>
              <a:ext cx="252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17480" y="415296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17920" y="4960800"/>
              <a:ext cx="1829880" cy="51300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17840" y="506736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05880" y="3733920"/>
              <a:ext cx="1201320" cy="10540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17560" y="4114800"/>
              <a:ext cx="100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MM(PC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547640" y="5473800"/>
              <a:ext cx="367560" cy="422280"/>
            </a:xfrm>
            <a:custGeom>
              <a:avLst/>
              <a:gdLst/>
              <a:ahLst/>
              <a:rect l="l" t="t" r="r" b="b"/>
              <a:pathLst>
                <a:path w="137" h="114">
                  <a:moveTo>
                    <a:pt x="35" y="86"/>
                  </a:moveTo>
                  <a:lnTo>
                    <a:pt x="0" y="86"/>
                  </a:lnTo>
                  <a:lnTo>
                    <a:pt x="69" y="114"/>
                  </a:lnTo>
                  <a:lnTo>
                    <a:pt x="137" y="86"/>
                  </a:lnTo>
                  <a:lnTo>
                    <a:pt x="103" y="86"/>
                  </a:lnTo>
                  <a:lnTo>
                    <a:pt x="103" y="29"/>
                  </a:lnTo>
                  <a:lnTo>
                    <a:pt x="137" y="29"/>
                  </a:lnTo>
                  <a:lnTo>
                    <a:pt x="69" y="0"/>
                  </a:lnTo>
                  <a:lnTo>
                    <a:pt x="0" y="29"/>
                  </a:lnTo>
                  <a:lnTo>
                    <a:pt x="35" y="29"/>
                  </a:lnTo>
                  <a:lnTo>
                    <a:pt x="35" y="8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33760" y="4708440"/>
              <a:ext cx="1418040" cy="112680"/>
            </a:xfrm>
            <a:custGeom>
              <a:avLst/>
              <a:gdLst/>
              <a:ahLst/>
              <a:rect l="l" t="t" r="r" b="b"/>
              <a:pathLst>
                <a:path w="529" h="30">
                  <a:moveTo>
                    <a:pt x="0" y="30"/>
                  </a:moveTo>
                  <a:lnTo>
                    <a:pt x="0" y="0"/>
                  </a:lnTo>
                  <a:lnTo>
                    <a:pt x="52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73640" y="4799160"/>
              <a:ext cx="118440" cy="1616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4" y="0"/>
                  </a:moveTo>
                  <a:lnTo>
                    <a:pt x="22" y="44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38840" y="462456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3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17920" y="2987640"/>
              <a:ext cx="1829880" cy="557280"/>
            </a:xfrm>
            <a:prstGeom prst="rect">
              <a:avLst/>
            </a:prstGeom>
            <a:solidFill>
              <a:srgbClr val="b4d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17840" y="30862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47640" y="2671920"/>
              <a:ext cx="367560" cy="31572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35" y="64"/>
                  </a:moveTo>
                  <a:lnTo>
                    <a:pt x="0" y="64"/>
                  </a:lnTo>
                  <a:lnTo>
                    <a:pt x="69" y="85"/>
                  </a:lnTo>
                  <a:lnTo>
                    <a:pt x="137" y="64"/>
                  </a:lnTo>
                  <a:lnTo>
                    <a:pt x="103" y="64"/>
                  </a:lnTo>
                  <a:lnTo>
                    <a:pt x="103" y="22"/>
                  </a:lnTo>
                  <a:lnTo>
                    <a:pt x="137" y="22"/>
                  </a:lnTo>
                  <a:lnTo>
                    <a:pt x="69" y="0"/>
                  </a:lnTo>
                  <a:lnTo>
                    <a:pt x="0" y="22"/>
                  </a:lnTo>
                  <a:lnTo>
                    <a:pt x="35" y="22"/>
                  </a:lnTo>
                  <a:lnTo>
                    <a:pt x="35" y="6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33760" y="3692520"/>
              <a:ext cx="1418040" cy="166680"/>
            </a:xfrm>
            <a:custGeom>
              <a:avLst/>
              <a:gdLst/>
              <a:ahLst/>
              <a:rect l="l" t="t" r="r" b="b"/>
              <a:pathLst>
                <a:path w="529" h="45">
                  <a:moveTo>
                    <a:pt x="0" y="0"/>
                  </a:moveTo>
                  <a:lnTo>
                    <a:pt x="0" y="45"/>
                  </a:lnTo>
                  <a:lnTo>
                    <a:pt x="529" y="4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73640" y="3544920"/>
              <a:ext cx="118440" cy="16668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138840" y="3778200"/>
              <a:ext cx="119880" cy="1666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48512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22280" y="1066680"/>
            <a:ext cx="826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Way to Follow the System State without Debugger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7720" y="3646440"/>
            <a:ext cx="1830240" cy="561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98920" y="3770280"/>
            <a:ext cx="1021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73280" y="480060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94120" y="4876920"/>
            <a:ext cx="71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4664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67840" y="37339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76360" y="5334120"/>
            <a:ext cx="368280" cy="50616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3280" y="2590920"/>
            <a:ext cx="1830240" cy="50796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760" y="2666880"/>
            <a:ext cx="64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76360" y="205740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67560" y="3352680"/>
            <a:ext cx="1201680" cy="1067040"/>
          </a:xfrm>
          <a:prstGeom prst="rect">
            <a:avLst/>
          </a:prstGeom>
          <a:solidFill>
            <a:srgbClr val="b4d9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71680" y="37339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O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76360" y="4267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76360" y="3124080"/>
            <a:ext cx="368280" cy="506520"/>
          </a:xfrm>
          <a:custGeom>
            <a:avLst/>
            <a:gdLst/>
            <a:ahLst/>
            <a:rect l="l" t="t" r="r" b="b"/>
            <a:pathLst>
              <a:path w="137" h="136">
                <a:moveTo>
                  <a:pt x="35" y="103"/>
                </a:moveTo>
                <a:lnTo>
                  <a:pt x="0" y="103"/>
                </a:lnTo>
                <a:lnTo>
                  <a:pt x="69" y="136"/>
                </a:lnTo>
                <a:lnTo>
                  <a:pt x="137" y="103"/>
                </a:lnTo>
                <a:lnTo>
                  <a:pt x="103" y="103"/>
                </a:lnTo>
                <a:lnTo>
                  <a:pt x="103" y="34"/>
                </a:lnTo>
                <a:lnTo>
                  <a:pt x="137" y="34"/>
                </a:lnTo>
                <a:lnTo>
                  <a:pt x="69" y="0"/>
                </a:lnTo>
                <a:lnTo>
                  <a:pt x="0" y="34"/>
                </a:lnTo>
                <a:lnTo>
                  <a:pt x="35" y="34"/>
                </a:lnTo>
                <a:lnTo>
                  <a:pt x="35" y="10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602080" y="281952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02080" y="3886200"/>
            <a:ext cx="8445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2080" y="50292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024360" y="4114800"/>
            <a:ext cx="0" cy="9144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024360" y="2819520"/>
            <a:ext cx="0" cy="838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024360" y="36576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24360" y="4114800"/>
            <a:ext cx="42228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41840" y="3886200"/>
            <a:ext cx="11257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1120" y="3747960"/>
            <a:ext cx="49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2360" y="3867120"/>
            <a:ext cx="48276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05520" y="1905120"/>
            <a:ext cx="0" cy="4190760"/>
          </a:xfrm>
          <a:prstGeom prst="line">
            <a:avLst/>
          </a:prstGeom>
          <a:ln cap="rnd" w="22320">
            <a:solidFill>
              <a:srgbClr val="00306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6840" y="5702400"/>
            <a:ext cx="74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49360" y="5761080"/>
            <a:ext cx="84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Trac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22280" y="1066680"/>
            <a:ext cx="80359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 Classes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FUNCTION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RACE_IN(), PTRACE_OU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STATE(), SET_STATE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RROR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E_EVENT(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Fram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2" marL="1131480" indent="-226080">
              <a:lnSpc>
                <a:spcPct val="110000"/>
              </a:lnSpc>
              <a:spcBef>
                <a:spcPts val="451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 Tr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CC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trace class with trace mask in the fra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activation of traces via system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coding of strings to be trac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can define his own trace class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Primitives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5320" y="954000"/>
            <a:ext cx="41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ad Resource Inform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48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TASK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Stat: 6 Count: 288 Prio: 205 Stack: 871240 Size: 1736 Untouched: 808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QUEU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RR Addr: 879188 Entries: 10 Used: 0 MaxUsed: 4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PARTIT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POOL10 Addr: 85c998 PoolSize: 7128 PartSize: 64 Free: 86 Used: 1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MEMORY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ONDAT Addr: 86e634 Size: 60000 Min: 4 Free: 12548 Suspend: 6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SEMAPHORE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CCD_COD Count: 1 Suspend: 11 Waiting: 0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2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98240" y="903240"/>
            <a:ext cx="64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rtition Pool Monitor -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2120" y="1600200"/>
            <a:ext cx="6612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ing of the partition stat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user (file,line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2120" y="3809880"/>
            <a:ext cx="5275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tistics on partition usag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ze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mbers of used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mp via test interfa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849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Partition Supervis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97880" y="903240"/>
            <a:ext cx="53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tion Pool Monitor - Outpu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92120" y="1447920"/>
            <a:ext cx="865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d Partition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88, OPC 0x0 STATE ALLOCATED OWNER UART, TIME 670, uart_dtxf.c,245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PPM]: PARTITION 0x85edd8, OPC 0x0 STATE ALLOCATED OWNER MMI, TIME 666, aci_lst.c,147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2120" y="2743200"/>
            <a:ext cx="8370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NAME: PRI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POOL 0 (size 60)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ool 0: 1849 by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61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BYTE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ool 0:  50 part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&gt; 50 %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PART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,   0,   3,  41,  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MAXRANGE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,   3,  11,  41,   4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PPM]: TOTAL    partitions pool 0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,  23, 541, 497, 115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60958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029200"/>
            <a:ext cx="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4648320"/>
            <a:ext cx="243828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viera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P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2D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4648320"/>
            <a:ext cx="259056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PF 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35053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0481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9625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5909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2133720"/>
            <a:ext cx="685800" cy="337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971800"/>
            <a:ext cx="0" cy="1676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3429000"/>
            <a:ext cx="0" cy="1219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886200"/>
            <a:ext cx="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343400"/>
            <a:ext cx="0" cy="3049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0" y="2514600"/>
            <a:ext cx="0" cy="2133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523880"/>
            <a:ext cx="243828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24386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tocol Stac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96800" y="903240"/>
            <a:ext cx="60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rror Handling – System Warning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2120" y="1523880"/>
            <a:ext cx="804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spac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Waited for partition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si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opc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gger partition allocated than requested,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Partition Deallocation failed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tored i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tas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eu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reed partition s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opc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Receiver proces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unknow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Invalid system primitive string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WARNING: Number of written &gt; requested partition size 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e, lin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2120" y="4724280"/>
            <a:ext cx="85755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warning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diagnose_write (warning_string, DAR_WARNING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95720" y="903240"/>
            <a:ext cx="541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Error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2120" y="1600200"/>
            <a:ext cx="815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Timers &gt; MAX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entities &gt; MAX_ENTITIES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started timers &gt; MAX_SIMULTANEOUS_TIM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umber of created semaphores &gt; MAX_SEMAPHORES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Partition Guard Pattern destroy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ptr, op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No Partition available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, siz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write attempt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 failed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tack overflow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Error at creat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ueu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 ERROR: TimerIndex &gt; NumOfTim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sk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120" y="4952880"/>
            <a:ext cx="8089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 error results in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mp of system stat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ar_generate_emergency (error_string, ..., CONDAT_FRM_USE_ID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Error Handling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880" y="903240"/>
            <a:ext cx="632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Handling - System State Dump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2120" y="1600200"/>
            <a:ext cx="81597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5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186b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T: Processed Messag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AL opc: 0x8, time: 26149 ptr: 0x85f7b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I: task state: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MMI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2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task state: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2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Normal suspend, Link Register = 0x810ded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 opc: 0x1, time: 0 ptr: 0x0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T: Messages in queue: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MITIVE opc: 0x5600, time: 27916 ptr: 0x863c24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: task state: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SI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QUEUE_SUSPEND (CM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0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task state: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 state: 1 of 10 us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_READY - IRQ suspend, Program Counter = 0x1ad54c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Processed Message:    PRIMITIVE opc: 0x8000, time: 26149 ptr: 0x85f8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GMM: Messages in queue:      PRIMITIVE opc: 0x4608, time: 26690 ptr: 0x85ff2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92120" y="1295280"/>
            <a:ext cx="827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92120" y="1219320"/>
            <a:ext cx="6612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as a Tas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Interface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rom test syste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rimitives (configuration)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to test system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d protocol primitiv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exchange of driver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95000" y="903240"/>
            <a:ext cx="43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1120" y="1219320"/>
            <a:ext cx="5907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Init(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o be notifie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65560" y="3808440"/>
            <a:ext cx="708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t T_DRV_LIST_ENTRY DrvList[] =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IF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IF_Init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"TST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TR"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_Init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"SER"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_Init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amp;SER_DefaultConfig }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{ 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,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LL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92120" y="990720"/>
            <a:ext cx="808992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itive Converter (PCON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number representation (little vs. big endia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between platforms with different alignment model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of primitives containing point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alled in TIF driver when primitive is sent or received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92120" y="990720"/>
            <a:ext cx="80899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Entity Configur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strings transparently through TST and the frame to entity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03440" y="2209680"/>
            <a:ext cx="7525800" cy="2656080"/>
            <a:chOff x="703440" y="2209680"/>
            <a:chExt cx="7525800" cy="2656080"/>
          </a:xfrm>
        </p:grpSpPr>
        <p:sp>
          <p:nvSpPr>
            <p:cNvPr id="612" name=""/>
            <p:cNvSpPr/>
            <p:nvPr/>
          </p:nvSpPr>
          <p:spPr>
            <a:xfrm>
              <a:off x="703440" y="3948480"/>
              <a:ext cx="393876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69200" y="4497480"/>
              <a:ext cx="10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3440" y="2209680"/>
              <a:ext cx="16880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3798000" y="2209680"/>
              <a:ext cx="914040" cy="785520"/>
              <a:chOff x="3798000" y="2209680"/>
              <a:chExt cx="914040" cy="785520"/>
            </a:xfrm>
          </p:grpSpPr>
          <p:sp>
            <p:nvSpPr>
              <p:cNvPr id="616" name=""/>
              <p:cNvSpPr/>
              <p:nvPr/>
            </p:nvSpPr>
            <p:spPr>
              <a:xfrm>
                <a:off x="3798000" y="2209680"/>
                <a:ext cx="84420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008960" y="248400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265760" y="23929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I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642200" y="2667240"/>
              <a:ext cx="23209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3480" y="2209680"/>
              <a:ext cx="84384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3680" y="2484000"/>
              <a:ext cx="11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53160" y="2301120"/>
              <a:ext cx="2109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MI CONFIG 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984240" y="2758680"/>
              <a:ext cx="112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config()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476720" y="312444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76720" y="3399480"/>
              <a:ext cx="1336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UTO_ATTACH</a:t>
              </a:r>
              <a:endParaRPr b="0" lang="en-US" sz="11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20280" y="3124800"/>
              <a:ext cx="0" cy="82332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703440" y="4495680"/>
            <a:ext cx="805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tity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MM CONFIG MULTISLOT_CLASS=&lt;8&g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T command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MI CONFIG AT+CFUN=1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2R CONFIG TIMER_SET TUP_SND 1000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306600" y="3962520"/>
            <a:ext cx="2532240" cy="190476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764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62040" y="297180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2040" y="396252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6204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2040" y="327672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62040" y="4267080"/>
            <a:ext cx="84456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462040" y="5181480"/>
            <a:ext cx="844560" cy="3070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_TRC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4876920"/>
            <a:ext cx="914400" cy="99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46640" y="3276720"/>
            <a:ext cx="84420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AR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06600" y="4952880"/>
            <a:ext cx="84456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46640" y="5181480"/>
            <a:ext cx="704520" cy="36828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221000" y="2971800"/>
            <a:ext cx="1617840" cy="9144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06600" y="342900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151160" y="5410080"/>
            <a:ext cx="6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Test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68080" y="903240"/>
            <a:ext cx="76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est Interface – Target Driver Configuration 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33240" y="2971800"/>
            <a:ext cx="105444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758960" y="2971800"/>
            <a:ext cx="703080" cy="28954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86200"/>
            <a:ext cx="70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73280" y="4267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3240" y="2133720"/>
            <a:ext cx="2671920" cy="457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81240" y="220968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I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0840" y="3048120"/>
            <a:ext cx="2813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fd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0996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884320" y="259092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7680" y="4419720"/>
            <a:ext cx="71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19560" y="4343400"/>
            <a:ext cx="2814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ial driver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ER_tr..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92120" y="1447920"/>
            <a:ext cx="827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 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2120" y="91440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41760" y="5595840"/>
            <a:ext cx="1828800" cy="874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cleus, WIN32, pSOS, VxWork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541760" y="871560"/>
            <a:ext cx="4221360" cy="1143000"/>
            <a:chOff x="4541760" y="871560"/>
            <a:chExt cx="4221360" cy="1143000"/>
          </a:xfrm>
        </p:grpSpPr>
        <p:sp>
          <p:nvSpPr>
            <p:cNvPr id="119" name=""/>
            <p:cNvSpPr/>
            <p:nvPr/>
          </p:nvSpPr>
          <p:spPr>
            <a:xfrm>
              <a:off x="4541760" y="871560"/>
              <a:ext cx="4221360" cy="6616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Protocol Stack Entities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e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0788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08940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41760" y="2014560"/>
            <a:ext cx="2603520" cy="2514600"/>
            <a:chOff x="4541760" y="2014560"/>
            <a:chExt cx="2603520" cy="2514600"/>
          </a:xfrm>
        </p:grpSpPr>
        <p:sp>
          <p:nvSpPr>
            <p:cNvPr id="123" name=""/>
            <p:cNvSpPr/>
            <p:nvPr/>
          </p:nvSpPr>
          <p:spPr>
            <a:xfrm>
              <a:off x="4541760" y="2014560"/>
              <a:ext cx="1829520" cy="20574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rame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si_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rtual OS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S Extension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assive Mod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race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mory Supervis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imer Configura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tartup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7844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160320" y="40719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0320" y="4147920"/>
              <a:ext cx="98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541760" y="4529160"/>
            <a:ext cx="2482920" cy="1066680"/>
            <a:chOff x="4541760" y="4529160"/>
            <a:chExt cx="2482920" cy="1066680"/>
          </a:xfrm>
        </p:grpSpPr>
        <p:sp>
          <p:nvSpPr>
            <p:cNvPr id="128" name=""/>
            <p:cNvSpPr/>
            <p:nvPr/>
          </p:nvSpPr>
          <p:spPr>
            <a:xfrm>
              <a:off x="4541760" y="4529160"/>
              <a:ext cx="1829160" cy="61524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OS Layer       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s_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daptation to RTOS</a:t>
              </a:r>
              <a:endParaRPr b="0" lang="en-US" sz="12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7844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159960" y="5214960"/>
              <a:ext cx="0" cy="38088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59600" y="52862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370560" y="1557360"/>
            <a:ext cx="2392200" cy="1332000"/>
            <a:chOff x="6370560" y="1557360"/>
            <a:chExt cx="2392200" cy="1332000"/>
          </a:xfrm>
        </p:grpSpPr>
        <p:sp>
          <p:nvSpPr>
            <p:cNvPr id="133" name=""/>
            <p:cNvSpPr/>
            <p:nvPr/>
          </p:nvSpPr>
          <p:spPr>
            <a:xfrm>
              <a:off x="7144560" y="2014560"/>
              <a:ext cx="1618200" cy="874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river</a:t>
              </a:r>
              <a:endParaRPr b="0" lang="en-US" sz="16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ardware Abstraction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0560" y="216684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370560" y="2471760"/>
              <a:ext cx="774000" cy="0"/>
            </a:xfrm>
            <a:prstGeom prst="line">
              <a:avLst/>
            </a:prstGeom>
            <a:ln w="12600">
              <a:solidFill>
                <a:srgbClr val="00306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0400" y="246672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allback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48360" y="1557360"/>
              <a:ext cx="0" cy="4572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40400" y="185724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_ini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8600" y="3886200"/>
            <a:ext cx="3586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System Interface (VS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 Stack Entity Interface (PEI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 Interface (OS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00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96800" y="90324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61960" y="1523880"/>
            <a:ext cx="6612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mp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drv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interface driver list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init.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_Initialize() functio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xconst.h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and size of partition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tasks, timers, semaphore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3240" y="5486400"/>
            <a:ext cx="79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 frame recompilation when configuration files are change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720" y="903240"/>
            <a:ext cx="44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vided Frame Librar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61960" y="1523880"/>
            <a:ext cx="337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managemen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phore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nterfac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service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006880" y="1523880"/>
            <a:ext cx="42894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a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arm7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n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MNT 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d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 pool supervisi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on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internal RAM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f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in flash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1960" y="5029200"/>
            <a:ext cx="7456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a7_db_fl.lib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target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me_npc_db_ps.lib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C simulation)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– System Setup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97520" y="903240"/>
            <a:ext cx="36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quired Resourc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61960" y="1752480"/>
            <a:ext cx="7896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 [kB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M[kB]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fl.lib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fl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f_na7_db_ir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x_na7_db.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 Body Concept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120" y="1295280"/>
            <a:ext cx="796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Frame Functionality &amp; Interfaces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Test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System Setup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yer 1 Interface</a:t>
            </a:r>
            <a:endParaRPr b="0" lang="en-US" sz="3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3240" y="1066680"/>
            <a:ext cx="2109960" cy="9860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2/3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57600" y="29718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0956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33240" y="3429000"/>
            <a:ext cx="4500720" cy="20574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tual O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Extension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sive Mode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Supervis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r Configura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024360" y="1066680"/>
            <a:ext cx="2109600" cy="986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yer 1 asynchronou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24360" y="2590920"/>
            <a:ext cx="126648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7760" y="21337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457200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812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758960" y="3429000"/>
            <a:ext cx="2251080" cy="3808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532240" y="350532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i_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181240" y="548640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697360" y="1066680"/>
            <a:ext cx="1828800" cy="1067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798720" y="23623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798720" y="2362320"/>
            <a:ext cx="2813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611760" y="213372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266840" y="2133720"/>
            <a:ext cx="0" cy="129528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81160" y="914400"/>
            <a:ext cx="8510400" cy="25909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1160" y="3505320"/>
            <a:ext cx="8510400" cy="1371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160" y="4876920"/>
            <a:ext cx="8510400" cy="129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10040" y="1143000"/>
            <a:ext cx="2390400" cy="685800"/>
            <a:chOff x="4010040" y="1143000"/>
            <a:chExt cx="2390400" cy="685800"/>
          </a:xfrm>
        </p:grpSpPr>
        <p:sp>
          <p:nvSpPr>
            <p:cNvPr id="694" name=""/>
            <p:cNvSpPr/>
            <p:nvPr/>
          </p:nvSpPr>
          <p:spPr>
            <a:xfrm>
              <a:off x="4010040" y="1371600"/>
              <a:ext cx="105480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22100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3196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292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53880" y="13716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64840" y="1143000"/>
              <a:ext cx="133560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181240" y="2362320"/>
            <a:ext cx="46418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069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024360" y="5257800"/>
            <a:ext cx="2391840" cy="685800"/>
            <a:chOff x="3024360" y="5257800"/>
            <a:chExt cx="2391840" cy="685800"/>
          </a:xfrm>
        </p:grpSpPr>
        <p:sp>
          <p:nvSpPr>
            <p:cNvPr id="703" name=""/>
            <p:cNvSpPr/>
            <p:nvPr/>
          </p:nvSpPr>
          <p:spPr>
            <a:xfrm>
              <a:off x="3024360" y="5486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3532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628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5760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68560" y="5486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079520" y="5257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1A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703440" y="5257800"/>
            <a:ext cx="13363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S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3024360" y="3886200"/>
            <a:ext cx="2391840" cy="685800"/>
            <a:chOff x="3024360" y="3886200"/>
            <a:chExt cx="2391840" cy="685800"/>
          </a:xfrm>
        </p:grpSpPr>
        <p:sp>
          <p:nvSpPr>
            <p:cNvPr id="711" name=""/>
            <p:cNvSpPr/>
            <p:nvPr/>
          </p:nvSpPr>
          <p:spPr>
            <a:xfrm>
              <a:off x="3024360" y="41148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3532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4628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5760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68560" y="41148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79520" y="38862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PC/AL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516480" y="1828800"/>
            <a:ext cx="2391840" cy="685800"/>
            <a:chOff x="3516480" y="1828800"/>
            <a:chExt cx="2391840" cy="685800"/>
          </a:xfrm>
        </p:grpSpPr>
        <p:sp>
          <p:nvSpPr>
            <p:cNvPr id="718" name=""/>
            <p:cNvSpPr/>
            <p:nvPr/>
          </p:nvSpPr>
          <p:spPr>
            <a:xfrm>
              <a:off x="3516480" y="20574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2744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3840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4972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60680" y="20574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1640" y="18288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024360" y="2514600"/>
            <a:ext cx="2391840" cy="685800"/>
            <a:chOff x="3024360" y="2514600"/>
            <a:chExt cx="2391840" cy="685800"/>
          </a:xfrm>
        </p:grpSpPr>
        <p:sp>
          <p:nvSpPr>
            <p:cNvPr id="725" name=""/>
            <p:cNvSpPr/>
            <p:nvPr/>
          </p:nvSpPr>
          <p:spPr>
            <a:xfrm>
              <a:off x="3024360" y="2743200"/>
              <a:ext cx="1055160" cy="2286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3532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4628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5760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8560" y="2743200"/>
              <a:ext cx="0" cy="22860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079520" y="2514600"/>
              <a:ext cx="1336680" cy="6858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L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6861960" y="19810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dat Layer 2/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862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 Adaptatio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61240" y="53341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I Layer 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3440" y="5105520"/>
            <a:ext cx="28080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2240" y="5254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RQ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39760" y="5638680"/>
            <a:ext cx="9846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462040" y="55627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782960" y="45720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462040" y="51055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2461680" y="47242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82960" y="49528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62040" y="47242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62040" y="42670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62040" y="42670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03440" y="510552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21920" y="4952520"/>
            <a:ext cx="281160" cy="3049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782960" y="3200400"/>
            <a:ext cx="0" cy="1522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2461680" y="3352680"/>
            <a:ext cx="2320920" cy="3812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782960" y="3581280"/>
            <a:ext cx="0" cy="1526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62040" y="3352680"/>
            <a:ext cx="2320920" cy="2286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462040" y="289548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462040" y="28954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462040" y="41911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462040" y="3733920"/>
            <a:ext cx="0" cy="4572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462040" y="281952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954160" y="2209680"/>
            <a:ext cx="56232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46640" y="1523880"/>
            <a:ext cx="563400" cy="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406520" y="2666880"/>
            <a:ext cx="9144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52440" y="3886200"/>
            <a:ext cx="91440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50880" y="27892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unc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476360" y="3276360"/>
            <a:ext cx="352440" cy="1981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844200" y="4495320"/>
            <a:ext cx="351000" cy="7621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4290840" y="3048120"/>
            <a:ext cx="4361040" cy="1143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290840" y="1905120"/>
            <a:ext cx="4361040" cy="1143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62040" y="1905120"/>
            <a:ext cx="1828800" cy="2286000"/>
          </a:xfrm>
          <a:prstGeom prst="rect">
            <a:avLst/>
          </a:prstGeom>
          <a:solidFill>
            <a:srgbClr val="b4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62040" y="4191120"/>
            <a:ext cx="6189840" cy="1143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92120" y="1905120"/>
            <a:ext cx="1969920" cy="3429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73280" y="3276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73280" y="2133720"/>
            <a:ext cx="147780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C_Initialize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733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p_Initialize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673360" y="3276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askEntry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7336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1A_task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50216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alloc_prim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41920" y="3276720"/>
            <a:ext cx="1406520" cy="60948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s_send_sig(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192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send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2160" y="2133720"/>
            <a:ext cx="1406520" cy="609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si_c_new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049440" y="33465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049440" y="22795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27160" y="464184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4840" y="10587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Arial"/>
              </a:rPr>
              <a:t>Startup and L1 Frame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476360" y="4419360"/>
            <a:ext cx="0" cy="2286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476360" y="3886200"/>
            <a:ext cx="0" cy="3808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67560" y="410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1476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51080" y="2438280"/>
            <a:ext cx="422280" cy="0"/>
          </a:xfrm>
          <a:prstGeom prst="line">
            <a:avLst/>
          </a:prstGeom>
          <a:ln cap="rnd" w="12600">
            <a:solidFill>
              <a:srgbClr val="003069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764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376440" y="3886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1406520" cy="609480"/>
          </a:xfrm>
          <a:prstGeom prst="ellipse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1S_HISR(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868560" y="3809520"/>
            <a:ext cx="98460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079880" y="3809880"/>
            <a:ext cx="2673360" cy="9907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6753240" y="3885840"/>
            <a:ext cx="420840" cy="68580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486040" y="3885840"/>
            <a:ext cx="281160" cy="6094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0524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7245360" y="2743200"/>
            <a:ext cx="0" cy="53352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462040" y="1905120"/>
            <a:ext cx="6189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8651880" y="1904760"/>
            <a:ext cx="0" cy="114300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231760" y="494676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10560" y="3803760"/>
            <a:ext cx="83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X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698240" y="26607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A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53240" y="50227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64560" y="280368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TO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yer 1 Interface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- Documentation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92120" y="1219320"/>
            <a:ext cx="73152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Users Guid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34.100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I/PEI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3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15.036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657600" y="2666880"/>
            <a:ext cx="386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92120" y="1828800"/>
            <a:ext cx="2391840" cy="3111480"/>
            <a:chOff x="492120" y="1828800"/>
            <a:chExt cx="2391840" cy="3111480"/>
          </a:xfrm>
        </p:grpSpPr>
        <p:sp>
          <p:nvSpPr>
            <p:cNvPr id="142" name=""/>
            <p:cNvSpPr/>
            <p:nvPr/>
          </p:nvSpPr>
          <p:spPr>
            <a:xfrm>
              <a:off x="492120" y="3733560"/>
              <a:ext cx="232164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TOS (Nucleu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2120" y="2971800"/>
              <a:ext cx="232164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120" y="3352680"/>
              <a:ext cx="232164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3640" y="182880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8460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9560" y="2133360"/>
              <a:ext cx="844200" cy="78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520" y="198108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2120" y="2133360"/>
              <a:ext cx="84420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8052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ST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3080" y="236196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13040" y="2133720"/>
            <a:ext cx="5838480" cy="2806560"/>
            <a:chOff x="2813040" y="2133720"/>
            <a:chExt cx="5838480" cy="2806560"/>
          </a:xfrm>
        </p:grpSpPr>
        <p:sp>
          <p:nvSpPr>
            <p:cNvPr id="153" name=""/>
            <p:cNvSpPr/>
            <p:nvPr/>
          </p:nvSpPr>
          <p:spPr>
            <a:xfrm>
              <a:off x="5063760" y="3733920"/>
              <a:ext cx="3587760" cy="785520"/>
            </a:xfrm>
            <a:prstGeom prst="rect">
              <a:avLst/>
            </a:prstGeom>
            <a:solidFill>
              <a:srgbClr val="0063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CM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TOS (Windows)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63760" y="2971800"/>
              <a:ext cx="2673000" cy="36828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3760" y="3352680"/>
              <a:ext cx="2673000" cy="3682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OS - Layer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30240" y="4572000"/>
              <a:ext cx="105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929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8520" y="2133720"/>
              <a:ext cx="843840" cy="78552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063760" y="2133720"/>
              <a:ext cx="914040" cy="785520"/>
              <a:chOff x="5063760" y="2133720"/>
              <a:chExt cx="914040" cy="78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5063760" y="2133720"/>
                <a:ext cx="843840" cy="785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74720" y="2361960"/>
                <a:ext cx="70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ST</a:t>
                </a:r>
                <a:endParaRPr b="0" lang="en-US" sz="18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048720" y="2362320"/>
              <a:ext cx="84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Panel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3760" y="4114800"/>
              <a:ext cx="3587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3680" y="2362320"/>
              <a:ext cx="70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07680" y="2133720"/>
              <a:ext cx="843840" cy="1600200"/>
            </a:xfrm>
            <a:prstGeom prst="rect">
              <a:avLst/>
            </a:prstGeom>
            <a:solidFill>
              <a:srgbClr val="b4d9ff"/>
            </a:solidFill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8080" y="23623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CO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13040" y="2514600"/>
              <a:ext cx="225072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055520" y="5334120"/>
            <a:ext cx="68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he same frame is used for target and tools !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280" y="990720"/>
            <a:ext cx="51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rame in Target and Tool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813040" y="2133720"/>
            <a:ext cx="2250720" cy="785520"/>
            <a:chOff x="2813040" y="2133720"/>
            <a:chExt cx="2250720" cy="785520"/>
          </a:xfrm>
        </p:grpSpPr>
        <p:sp>
          <p:nvSpPr>
            <p:cNvPr id="171" name=""/>
            <p:cNvSpPr/>
            <p:nvPr/>
          </p:nvSpPr>
          <p:spPr>
            <a:xfrm>
              <a:off x="281304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2880" y="2362320"/>
              <a:ext cx="56268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VT</a:t>
              </a:r>
              <a:endParaRPr b="0" lang="en-US" sz="1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0120" y="2133720"/>
              <a:ext cx="773640" cy="7855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60320" y="2362320"/>
              <a:ext cx="703440" cy="368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6680" y="2514600"/>
              <a:ext cx="703440" cy="0"/>
            </a:xfrm>
            <a:prstGeom prst="line">
              <a:avLst/>
            </a:prstGeom>
            <a:ln w="38160">
              <a:solidFill>
                <a:srgbClr val="00306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720" y="90324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tocol Stack Entities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" y="1752480"/>
            <a:ext cx="7034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implement the protocol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achin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of the GSM/GPRS/UMTS specification (e.g. GSM 04.08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access to RTOS resourc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 of process (act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6800" y="903240"/>
            <a:ext cx="35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1960" y="1523880"/>
            <a:ext cx="7210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r Managem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Interfac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Ac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loops of processes (passive body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38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rame Body Concep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verview</a:t>
            </a:r>
            <a:endParaRPr b="1" lang="en-US" sz="2800" spc="-1" strike="noStrike">
              <a:solidFill>
                <a:srgbClr val="00306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6440" y="903240"/>
            <a:ext cx="40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S Layer Functionality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1960" y="160020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to the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dependent diagno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dependencies – Nucleus MNT &amp; ARM7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nterface is independent of RTO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069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8:39:10Z</dcterms:created>
  <dc:creator>kk</dc:creator>
  <dc:description/>
  <dc:language>en-US</dc:language>
  <cp:lastModifiedBy>mp</cp:lastModifiedBy>
  <dcterms:modified xsi:type="dcterms:W3CDTF">2003-06-23T09:56:57Z</dcterms:modified>
  <cp:revision>38</cp:revision>
  <dc:subject/>
  <dc:title>PowerPoint-Präsentation</dc:title>
</cp:coreProperties>
</file>